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E1FD-7CA8-414D-A79E-F5BDC4C86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2D95-DCE5-4241-93AE-7E397EE46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3D03-31A0-409D-BA8E-C669231ED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93F1-FE3E-4FB8-A9D1-CB2415B41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860E-1887-48F2-B5F8-42E8FEDD9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8D51-1B63-4750-AEDF-15B5DCB46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82AB-496E-4A68-B1A3-F10757E0C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4358-DE40-4A84-96B3-B3862F6F4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B330-2178-49FF-A23D-3D82BE50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1349-8B31-4321-91B3-673B2D01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3458-5961-4F6F-B2FD-2294A7FB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54EF-3730-4853-937C-9715B9D40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DB9B5-1282-44E1-8834-10A398295D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Lamb of God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Lamb of Go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you take away the sin of the worl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ave mercy on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Lamb of Go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you take away the sin of the worl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ave mercy on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Lamb of Go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you take away the sin of the worl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grant us pea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586728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 Narrow"/>
              </a:rPr>
              <a:t>ELLC 19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23:44:46Z</dcterms:created>
  <dc:creator>Anon Anon</dc:creator>
  <dc:description/>
  <dc:language>en-US</dc:language>
  <cp:lastModifiedBy>Anon Anon</cp:lastModifiedBy>
  <dcterms:modified xsi:type="dcterms:W3CDTF">2005-08-16T04:24:18Z</dcterms:modified>
  <cp:revision>14</cp:revision>
  <dc:subject/>
  <dc:title>PowerPoint Presentation</dc:title>
</cp:coreProperties>
</file>